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  <p:custShowLst>
    <p:custShow name="Custom Show 1" id="0">
      <p:sldLst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9367-681D-4A73-BF76-957FB2A3E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EA8-5978-43CD-9D74-51D02AFE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074-29AA-40A8-8E58-6493A17BE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A4C1-D7DF-4097-815F-B04AE471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C362-BB49-47B8-9A16-393901DC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707-26DB-46E0-B8F9-72DB696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745E-15F6-4346-9457-85E7049C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FB1-2DE9-4104-B56F-490471D00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5CF5-BD76-4F5C-BD4D-51FEC481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7A9E-EB3F-4819-89AA-CDACDCA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EE3-F5E2-42D2-9D27-391BB2F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96F-7A3E-4E24-85C8-6BC68037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5ABF-B84B-4E18-86F8-7AB45A165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24280" y="533520"/>
            <a:ext cx="3807000" cy="57909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441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4800600" y="5181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800600" y="5562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4800600" y="4800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800600" y="5943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219320"/>
            <a:ext cx="3809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o Wants to be 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THOUSAND-AIRE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8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29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1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4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41911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overcome his fear of convi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let go of Est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45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has Pip matured by his 21</a:t>
              </a:r>
              <a:r>
                <a:rPr b="0" lang="en-US" sz="2400" spc="-1" strike="noStrike" baseline="30000">
                  <a:solidFill>
                    <a:srgbClr val="c0c0c0"/>
                  </a:solidFill>
                  <a:latin typeface="Arial"/>
                </a:rPr>
                <a:t>st</a:t>
              </a: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 birthda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49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1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4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54100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begins to question whether Miss Havisham is his benef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5486400"/>
            <a:ext cx="2133720" cy="73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has become more generous and sentimen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66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124080" y="2133720"/>
            <a:ext cx="3124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. He has become more generous and sentimen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75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5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75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3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5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Pa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Younger Sibl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ich of Pip’s relatives died recentl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73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5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8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is S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ll of the Abo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0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3124080" y="304812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. His Sis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457200" y="6095880"/>
            <a:ext cx="762120" cy="533520"/>
          </a:xfrm>
          <a:custGeom>
            <a:avLst/>
            <a:gdLst>
              <a:gd name="textAreaLeft" fmla="*/ 41040 w 762120"/>
              <a:gd name="textAreaRight" fmla="*/ 721080 w 762120"/>
              <a:gd name="textAreaTop" fmla="*/ 41040 h 533520"/>
              <a:gd name="textAreaBottom" fmla="*/ 49248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178" y="1671"/>
                </a:lnTo>
                <a:lnTo>
                  <a:pt x="1671" y="1671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178" y="19929"/>
                </a:lnTo>
                <a:lnTo>
                  <a:pt x="29178" y="1671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671" y="19929"/>
                </a:lnTo>
                <a:lnTo>
                  <a:pt x="29178" y="19929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671" y="1671"/>
                </a:lnTo>
                <a:lnTo>
                  <a:pt x="1671" y="19929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7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9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02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rabb &amp; 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1911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ocket’s Funeral H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13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was Mrs. Joe’s funeral hel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7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55627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iss Havisham’s 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55627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The Gargary’s Backy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34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124080" y="274320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. Trabb &amp; 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1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3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6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57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How much was Pip’s yearly income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1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3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  <a:ea typeface="Arial"/>
              </a:rPr>
              <a:t>£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78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124080" y="297180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£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5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7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0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41911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emmick is a cruel 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15000" y="4114800"/>
            <a:ext cx="2133720" cy="733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As a businessman he frowns upon helping others financi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01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y does Wemmick tell Pip to not help Herbe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5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7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0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5562720"/>
            <a:ext cx="21337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Pip does not have enough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556272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He believes Herbert will waste the mon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22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124080" y="2133720"/>
            <a:ext cx="312444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Times New Roman"/>
              </a:rPr>
              <a:t>B. As a businessman he frowns upon helping others financi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Tony Baldwin</dc:creator>
  <dc:description/>
  <dc:language>en-US</dc:language>
  <cp:lastModifiedBy>Ben McCartney</cp:lastModifiedBy>
  <cp:lastPrinted>2000-05-03T23:45:17Z</cp:lastPrinted>
  <dcterms:modified xsi:type="dcterms:W3CDTF">2009-03-02T01:03:54Z</dcterms:modified>
  <cp:revision>37</cp:revision>
  <dc:subject>Blank template for teachers</dc:subject>
  <dc:title>Who wants to be a millionaire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T. Baldwin</vt:lpwstr>
  </property>
  <property fmtid="{D5CDD505-2E9C-101B-9397-08002B2CF9AE}" pid="3" name="Client">
    <vt:lpwstr>Novell 3.31</vt:lpwstr>
  </property>
  <property fmtid="{D5CDD505-2E9C-101B-9397-08002B2CF9AE}" pid="4" name="Date completed">
    <vt:filetime>2001-12-06T08:00:00Z</vt:filetime>
  </property>
  <property fmtid="{D5CDD505-2E9C-101B-9397-08002B2CF9AE}" pid="5" name="Department">
    <vt:lpwstr>Technology services</vt:lpwstr>
  </property>
  <property fmtid="{D5CDD505-2E9C-101B-9397-08002B2CF9AE}" pid="6" name="Destination">
    <vt:lpwstr>Districtwide</vt:lpwstr>
  </property>
  <property fmtid="{D5CDD505-2E9C-101B-9397-08002B2CF9AE}" pid="7" name="Disposition">
    <vt:lpwstr>Finished</vt:lpwstr>
  </property>
  <property fmtid="{D5CDD505-2E9C-101B-9397-08002B2CF9AE}" pid="8" name="Division">
    <vt:lpwstr>N/A</vt:lpwstr>
  </property>
  <property fmtid="{D5CDD505-2E9C-101B-9397-08002B2CF9AE}" pid="9" name="Document number">
    <vt:r8>12010001</vt:r8>
  </property>
  <property fmtid="{D5CDD505-2E9C-101B-9397-08002B2CF9AE}" pid="10" name="Editor">
    <vt:lpwstr>T. Baldwin</vt:lpwstr>
  </property>
  <property fmtid="{D5CDD505-2E9C-101B-9397-08002B2CF9AE}" pid="11" name="Owner">
    <vt:lpwstr>T. Baldwin</vt:lpwstr>
  </property>
  <property fmtid="{D5CDD505-2E9C-101B-9397-08002B2CF9AE}" pid="12" name="Project">
    <vt:lpwstr>Tech. Support Materals</vt:lpwstr>
  </property>
  <property fmtid="{D5CDD505-2E9C-101B-9397-08002B2CF9AE}" pid="13" name="Telephone number">
    <vt:lpwstr>530.378.7025</vt:lpwstr>
  </property>
  <property fmtid="{D5CDD505-2E9C-101B-9397-08002B2CF9AE}" pid="14" name="Typist">
    <vt:lpwstr>T. Baldwin</vt:lpwstr>
  </property>
</Properties>
</file>